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66A-7FD4-4EC0-818E-17F8865A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0C1-BD86-406F-AD79-D30526FA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659-B0A7-4515-BA36-DDF415AB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CCFB-34AF-4A46-8947-D8950B75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3F0-2F77-438B-B86D-28DFB8AE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588-7F81-4D2D-B629-8E895A9C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387-4561-4B66-82D8-B881B37C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DC5-C6D5-463E-B7E8-19767E76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856-B659-4FC2-AB71-86802431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73F-7402-418B-9663-F42A2C41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5BE-4494-40B0-8387-9B838B4D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325-707F-4456-87A4-43ACD0D4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AAA0-29D5-4E28-BE81-9B68D685A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llamo ______________        Clase 8I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echa es el 24 de enero del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pósito # 32:  ¿Cómo terminamos la practica para el EXAMEN: UNIDAD 8 de mañ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-  Copia y respo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hay en un pastel de cumple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recibimos para nuestro cumple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comes con que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quieres ir a un concierto, ¿Qué necesi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iénes cant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iénes tocan instrumentos musica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 Complete with the correct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mos la película en el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elícula fue en español pero Roberto la _____________ porque estudia español en la esc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hora en el museo hay una ________ de arte mo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intor pinta un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 gusto mucho la ___________ de br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960" y="15228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II- Rewrite each sentence in the PRETE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 te oigo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o él te oye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los leen la novela.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eemos mucho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V- Rewrite each sentence in the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igo alg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Él tiene algo en la ma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lguien esta en la coci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Hay alguien delante de la taqui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Él va siempre al muse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los siempre reciben algo de algui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320" y="1190520"/>
          <a:ext cx="9067680" cy="5376960"/>
        </p:xfrm>
        <a:graphic>
          <a:graphicData uri="http://schemas.openxmlformats.org/drawingml/2006/table">
            <a:tbl>
              <a:tblPr/>
              <a:tblGrid>
                <a:gridCol w="1447560"/>
                <a:gridCol w="1371600"/>
                <a:gridCol w="1371600"/>
                <a:gridCol w="1600200"/>
                <a:gridCol w="1638360"/>
                <a:gridCol w="1638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st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í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bi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04920" y="304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- Conjugate in the PRETER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33920" y="609480"/>
            <a:ext cx="5410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867280"/>
            <a:ext cx="91440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1066680"/>
            <a:ext cx="7924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- Completa con el PRETER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380880" y="5867280"/>
            <a:ext cx="97534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228600"/>
            <a:ext cx="6553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228600" y="914400"/>
            <a:ext cx="7924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I- ¿Si o 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21:56:24Z</dcterms:created>
  <dc:creator>Helen Zumaeta</dc:creator>
  <dc:description/>
  <dc:language>en-US</dc:language>
  <cp:lastModifiedBy>Helen Zumaeta</cp:lastModifiedBy>
  <dcterms:modified xsi:type="dcterms:W3CDTF">2013-01-23T22:29:21Z</dcterms:modified>
  <cp:revision>2</cp:revision>
  <dc:subject/>
  <dc:title>Me llamo _________        Clase 8IM La fecha es el 24 de enero del 2013</dc:title>
</cp:coreProperties>
</file>